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1D8-042A-47FB-9D2D-0683C535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0AD-0C84-47C8-B52D-340035D3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474-E82F-47B8-B9F2-5696191A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4D3-B9F0-41EA-9864-7C0F45A6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3F2-3533-43D9-BDEC-0C4B8514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E24-2006-42BC-8429-BFF92AE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14A-765F-445C-BADB-3347AEF5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999-28A0-4D8A-922F-A9134FD6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914-BC40-4805-A2E9-DCEE3B00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476-14B2-4901-8875-10524AA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AA2-84CD-4A2D-8C64-59C32C4A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FBE-22AF-4754-A33C-41673D3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4DD3-AF1B-490C-9031-010E0F48F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3713760" cy="2741400"/>
            <a:chOff x="304920" y="304920"/>
            <a:chExt cx="3713760" cy="2741400"/>
          </a:xfrm>
        </p:grpSpPr>
        <p:pic>
          <p:nvPicPr>
            <p:cNvPr id="43" name="allardS" descr="allards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04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90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76920" y="304920"/>
            <a:ext cx="3713760" cy="2741400"/>
            <a:chOff x="4876920" y="304920"/>
            <a:chExt cx="3713760" cy="2741400"/>
          </a:xfrm>
        </p:grpSpPr>
        <p:pic>
          <p:nvPicPr>
            <p:cNvPr id="46" name="amalia_newest" descr="amalianewest"/>
            <p:cNvPicPr/>
            <p:nvPr/>
          </p:nvPicPr>
          <p:blipFill>
            <a:blip r:embed="rId2"/>
            <a:stretch/>
          </p:blipFill>
          <p:spPr>
            <a:xfrm>
              <a:off x="4876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062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3659040"/>
            <a:ext cx="3655800" cy="2741760"/>
            <a:chOff x="304920" y="3659040"/>
            <a:chExt cx="3655800" cy="2741760"/>
          </a:xfrm>
        </p:grpSpPr>
        <p:pic>
          <p:nvPicPr>
            <p:cNvPr id="50" name="andrew" descr="andrew"/>
            <p:cNvPicPr/>
            <p:nvPr/>
          </p:nvPicPr>
          <p:blipFill>
            <a:blip r:embed="rId3"/>
            <a:stretch/>
          </p:blipFill>
          <p:spPr>
            <a:xfrm>
              <a:off x="304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89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76920" y="3659040"/>
            <a:ext cx="3655800" cy="2741760"/>
            <a:chOff x="4876920" y="3659040"/>
            <a:chExt cx="3655800" cy="2741760"/>
          </a:xfrm>
        </p:grpSpPr>
        <p:pic>
          <p:nvPicPr>
            <p:cNvPr id="53" name="bas_kort" descr="bas kort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4876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061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1720" y="29718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30891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840" y="6289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2680" y="63244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 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7200" y="304920"/>
            <a:ext cx="3713760" cy="2741400"/>
            <a:chOff x="457200" y="304920"/>
            <a:chExt cx="3713760" cy="2741400"/>
          </a:xfrm>
        </p:grpSpPr>
        <p:pic>
          <p:nvPicPr>
            <p:cNvPr id="60" name="belinda" descr="belinda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4572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6428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dianNS" descr="dian ns"/>
          <p:cNvPicPr/>
          <p:nvPr/>
        </p:nvPicPr>
        <p:blipFill>
          <a:blip r:embed="rId2"/>
          <a:stretch/>
        </p:blipFill>
        <p:spPr>
          <a:xfrm>
            <a:off x="4724280" y="304920"/>
            <a:ext cx="3656160" cy="27414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724280" y="3581280"/>
            <a:ext cx="3656160" cy="2741760"/>
            <a:chOff x="4724280" y="3581280"/>
            <a:chExt cx="3656160" cy="2741760"/>
          </a:xfrm>
        </p:grpSpPr>
        <p:pic>
          <p:nvPicPr>
            <p:cNvPr id="64" name="geiske" descr="geiske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>
              <a:off x="472428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08840" y="3634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46280" y="3013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8320" y="30891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81280"/>
            <a:ext cx="3713760" cy="2741760"/>
            <a:chOff x="457200" y="3581280"/>
            <a:chExt cx="3713760" cy="2741760"/>
          </a:xfrm>
        </p:grpSpPr>
        <p:pic>
          <p:nvPicPr>
            <p:cNvPr id="69" name="ewieS" descr="ewie"/>
            <p:cNvPicPr/>
            <p:nvPr/>
          </p:nvPicPr>
          <p:blipFill>
            <a:blip r:embed="rId4"/>
            <a:stretch/>
          </p:blipFill>
          <p:spPr>
            <a:xfrm>
              <a:off x="45720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642840" y="3634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99640" y="6289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9000" y="6289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i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685800" y="304920"/>
            <a:ext cx="3656160" cy="2741400"/>
            <a:chOff x="685800" y="304920"/>
            <a:chExt cx="3656160" cy="2741400"/>
          </a:xfrm>
        </p:grpSpPr>
        <p:pic>
          <p:nvPicPr>
            <p:cNvPr id="74" name="henriette" descr="henriette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70360" y="358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00600" y="304920"/>
            <a:ext cx="3713760" cy="2741400"/>
            <a:chOff x="4800600" y="304920"/>
            <a:chExt cx="3713760" cy="2741400"/>
          </a:xfrm>
        </p:grpSpPr>
        <p:pic>
          <p:nvPicPr>
            <p:cNvPr id="77" name="hilde" descr="hilde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9862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3657600"/>
            <a:ext cx="3713760" cy="2741760"/>
            <a:chOff x="762120" y="3657600"/>
            <a:chExt cx="3713760" cy="2741760"/>
          </a:xfrm>
        </p:grpSpPr>
        <p:pic>
          <p:nvPicPr>
            <p:cNvPr id="80" name="last_one" descr="last one"/>
            <p:cNvPicPr/>
            <p:nvPr/>
          </p:nvPicPr>
          <p:blipFill>
            <a:blip r:embed="rId3"/>
            <a:stretch/>
          </p:blipFill>
          <p:spPr>
            <a:xfrm>
              <a:off x="7621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947760" y="3711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76920" y="3657600"/>
            <a:ext cx="3713760" cy="2741760"/>
            <a:chOff x="4876920" y="3657600"/>
            <a:chExt cx="3713760" cy="2741760"/>
          </a:xfrm>
        </p:grpSpPr>
        <p:pic>
          <p:nvPicPr>
            <p:cNvPr id="83" name="maartenS2" descr="maarten s2"/>
            <p:cNvPicPr/>
            <p:nvPr/>
          </p:nvPicPr>
          <p:blipFill>
            <a:blip r:embed="rId4"/>
            <a:stretch/>
          </p:blipFill>
          <p:spPr>
            <a:xfrm>
              <a:off x="4876920" y="36576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062560" y="3711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50120" y="30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4960" y="301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3480" y="63658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400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ten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14400" y="685800"/>
            <a:ext cx="3713760" cy="2741760"/>
            <a:chOff x="914400" y="685800"/>
            <a:chExt cx="3713760" cy="2741760"/>
          </a:xfrm>
        </p:grpSpPr>
        <p:pic>
          <p:nvPicPr>
            <p:cNvPr id="90" name="reinerS" descr="reinier s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91440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0004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432080" y="35463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952880" y="685800"/>
            <a:ext cx="3713760" cy="2741760"/>
            <a:chOff x="4952880" y="685800"/>
            <a:chExt cx="3713760" cy="2741760"/>
          </a:xfrm>
        </p:grpSpPr>
        <p:pic>
          <p:nvPicPr>
            <p:cNvPr id="94" name="triton_newest" descr="triton newest"/>
            <p:cNvPicPr/>
            <p:nvPr/>
          </p:nvPicPr>
          <p:blipFill>
            <a:blip r:embed="rId2"/>
            <a:stretch/>
          </p:blipFill>
          <p:spPr>
            <a:xfrm>
              <a:off x="495288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3852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70200" y="3470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ton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58:51Z</dcterms:created>
  <dc:creator>Dionne</dc:creator>
  <dc:description/>
  <dc:language>en-US</dc:language>
  <cp:lastModifiedBy>Rinia</cp:lastModifiedBy>
  <dcterms:modified xsi:type="dcterms:W3CDTF">2003-06-16T14:10:41Z</dcterms:modified>
  <cp:revision>11</cp:revision>
  <dc:subject/>
  <dc:title>PowerPoint Presentation</dc:title>
</cp:coreProperties>
</file>